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0365-D6DA-40C2-B551-D222C890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A7B2-630A-4A8B-92F0-515F8E70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A024-D0AE-4A98-A10B-00CEE080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A900-EFAE-42F2-B4D3-885F8884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930-05CA-4000-8330-4490C414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7B97-8F93-4FB2-9407-8997E8B1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CC4D-78BD-490C-B3D1-E8FF1208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839D-39A6-46B7-996A-5A4B6918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AA2B-71B3-4BDE-BBFF-09A5C3FA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FE91-C5D4-4FAB-B0A7-637715B8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670D-A225-4FCB-BB83-8917D28A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E0BB-5BF9-497A-8190-4D203615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248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64160"/>
            <a:ext cx="24609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8746-071D-491C-943F-1F0FB2F51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991720"/>
            <a:ext cx="7543800" cy="960480"/>
          </a:xfrm>
          <a:prstGeom prst="roundRect">
            <a:avLst>
              <a:gd name="adj" fmla="val 0"/>
            </a:avLst>
          </a:prstGeom>
          <a:solidFill>
            <a:srgbClr val="c9cc65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7467480"/>
            <a:ext cx="7543800" cy="1447920"/>
          </a:xfrm>
          <a:prstGeom prst="roundRect">
            <a:avLst>
              <a:gd name="adj" fmla="val 0"/>
            </a:avLst>
          </a:prstGeom>
          <a:solidFill>
            <a:srgbClr val="e80d12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18600000">
            <a:off x="151560" y="2210400"/>
            <a:ext cx="7620120" cy="5941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990720"/>
            <a:ext cx="7543800" cy="3124080"/>
          </a:xfrm>
          <a:prstGeom prst="roundRect">
            <a:avLst>
              <a:gd name="adj" fmla="val 0"/>
            </a:avLst>
          </a:prstGeom>
          <a:solidFill>
            <a:srgbClr val="33339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4191120"/>
            <a:ext cx="7543800" cy="3200400"/>
          </a:xfrm>
          <a:prstGeom prst="roundRect">
            <a:avLst>
              <a:gd name="adj" fmla="val 0"/>
            </a:avLst>
          </a:prstGeom>
          <a:solidFill>
            <a:srgbClr val="006f6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4560840"/>
            <a:ext cx="693396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Browse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urday 4:00-4:15, Lincoln Stein, part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SC S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MOD Presents GBrowse 2.0 and JBrow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esday 11:15-11:40, TT32, Scott C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S: A Software System for Annotation and Analysis of Genome Sequenc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n 12:40-2:30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01, Nela Zavaljev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Browse and Next Generation Sequencing Data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15, Scott C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FNGenome: A GBrowse-based tool for identifying Zinc Finger Nucle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 sites in model organis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Mon 12:40-2:30, E18, Deepak Rey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ing a Genome Browser for a Model Organism Database: Surveying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ze Community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 12:40-2:30, E30, Taner Se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GBrowse - A Web Server for GBrowse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 12:30-2:30, Z02, Ram Podiche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990720"/>
            <a:ext cx="609840" cy="3124080"/>
          </a:xfrm>
          <a:custGeom>
            <a:avLst/>
            <a:gdLst>
              <a:gd name="textAreaLeft" fmla="*/ 7560 w 609840"/>
              <a:gd name="textAreaRight" fmla="*/ 602280 w 609840"/>
              <a:gd name="textAreaTop" fmla="*/ 7560 h 3124080"/>
              <a:gd name="textAreaBottom" fmla="*/ 3116520 h 3124080"/>
            </a:gdLst>
            <a:ahLst/>
            <a:rect l="textAreaLeft" t="textAreaTop" r="textAreaRight" b="textAreaBottom"/>
            <a:pathLst>
              <a:path w="21600" h="110600">
                <a:moveTo>
                  <a:pt x="930" y="0"/>
                </a:moveTo>
                <a:arcTo wR="930" hR="930" stAng="16200000" swAng="-5400000"/>
                <a:lnTo>
                  <a:pt x="0" y="109670"/>
                </a:lnTo>
                <a:arcTo wR="930" hR="930" stAng="10800000" swAng="-5400000"/>
                <a:lnTo>
                  <a:pt x="20670" y="110600"/>
                </a:lnTo>
                <a:arcTo wR="930" hR="930" stAng="5400000" swAng="-5400000"/>
                <a:lnTo>
                  <a:pt x="21600" y="930"/>
                </a:lnTo>
                <a:arcTo wR="930" hR="930" stAng="0" swAng="-5400000"/>
                <a:close/>
              </a:path>
            </a:pathLst>
          </a:cu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69840" y="76320"/>
            <a:ext cx="725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GMOD</a:t>
            </a:r>
            <a:r>
              <a:rPr b="0" lang="en-US" sz="5400" spc="-1" strike="noStrike">
                <a:solidFill>
                  <a:srgbClr val="d92025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6f6e"/>
                </a:solidFill>
                <a:latin typeface="Arial"/>
              </a:rPr>
              <a:t>@</a:t>
            </a:r>
            <a:r>
              <a:rPr b="0" lang="en-US" sz="5400" spc="-1" strike="noStrike">
                <a:solidFill>
                  <a:srgbClr val="d92025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d90c09"/>
                </a:solidFill>
                <a:latin typeface="Arial"/>
              </a:rPr>
              <a:t>ISMB 20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574560" cy="762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990720"/>
            <a:ext cx="7543800" cy="365040"/>
          </a:xfrm>
          <a:prstGeom prst="roundRect">
            <a:avLst>
              <a:gd name="adj" fmla="val 4306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2080" y="974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ysis and Work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4191120"/>
            <a:ext cx="7543800" cy="365040"/>
          </a:xfrm>
          <a:prstGeom prst="roundRect">
            <a:avLst>
              <a:gd name="adj" fmla="val 0"/>
            </a:avLst>
          </a:prstGeom>
          <a:solidFill>
            <a:srgbClr val="00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7467480"/>
            <a:ext cx="7543800" cy="365400"/>
          </a:xfrm>
          <a:prstGeom prst="roundRect">
            <a:avLst>
              <a:gd name="adj" fmla="val 0"/>
            </a:avLst>
          </a:prstGeom>
          <a:solidFill>
            <a:srgbClr val="e837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9760" y="74516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h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324080"/>
            <a:ext cx="7010280" cy="28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laxy: Analyze, Visualize, Communi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urday 1:30-5:30, Galaxy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GS Analysis with Galaxy on the Cl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day 3:30-3:55, TT26, Anton Nekruten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ple Tracking and automated data processing in Galaxy for NG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ilit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day 4:00-4:25, TT28, Anton Nekruten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GA - An Intuitive Web Server for Prokaryotic Genome Annotation and oth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sis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 12:40-2:30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10, Christopher Hemmer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line Quantitative Transcriptome Analysis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 12:40-2:30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60, Regina Bohn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laxy NGS functionality from sample tracking to SNP calling: An interac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er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 12:40-2: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60, Ramakrishna Chakrab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196200" y="1456200"/>
            <a:ext cx="5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92520" y="2225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32400" y="33415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1873080"/>
            <a:ext cx="7543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940120"/>
            <a:ext cx="7543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4191120"/>
            <a:ext cx="609840" cy="3200400"/>
          </a:xfrm>
          <a:custGeom>
            <a:avLst/>
            <a:gdLst>
              <a:gd name="textAreaLeft" fmla="*/ 7560 w 609840"/>
              <a:gd name="textAreaRight" fmla="*/ 602280 w 609840"/>
              <a:gd name="textAreaTop" fmla="*/ 7560 h 3200400"/>
              <a:gd name="textAreaBottom" fmla="*/ 3192840 h 3200400"/>
            </a:gdLst>
            <a:ahLst/>
            <a:rect l="textAreaLeft" t="textAreaTop" r="textAreaRight" b="textAreaBottom"/>
            <a:pathLst>
              <a:path w="21600" h="113301">
                <a:moveTo>
                  <a:pt x="930" y="0"/>
                </a:moveTo>
                <a:arcTo wR="930" hR="930" stAng="16200000" swAng="-5400000"/>
                <a:lnTo>
                  <a:pt x="0" y="112371"/>
                </a:lnTo>
                <a:arcTo wR="930" hR="930" stAng="10800000" swAng="-5400000"/>
                <a:lnTo>
                  <a:pt x="20670" y="113301"/>
                </a:lnTo>
                <a:arcTo wR="930" hR="930" stAng="5400000" swAng="-5400000"/>
                <a:lnTo>
                  <a:pt x="21600" y="930"/>
                </a:lnTo>
                <a:arcTo wR="930" hR="930" stAng="0" swAng="-5400000"/>
                <a:close/>
              </a:path>
            </a:pathLst>
          </a:custGeom>
          <a:solidFill>
            <a:srgbClr val="006f6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92520" y="48484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-30600" y="62179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5568840"/>
            <a:ext cx="7543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8381880"/>
            <a:ext cx="7543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35560" y="417528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omic Visu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7467480"/>
            <a:ext cx="609840" cy="1447920"/>
          </a:xfrm>
          <a:custGeom>
            <a:avLst/>
            <a:gdLst>
              <a:gd name="textAreaLeft" fmla="*/ 0 w 609840"/>
              <a:gd name="textAreaRight" fmla="*/ 610200 w 60984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51267">
                <a:moveTo>
                  <a:pt x="0" y="0"/>
                </a:moveTo>
                <a:arcTo wR="0" hR="0" stAng="16200000" swAng="-5400000"/>
                <a:lnTo>
                  <a:pt x="0" y="51267"/>
                </a:lnTo>
                <a:arcTo wR="0" hR="0" stAng="10800000" swAng="-5400000"/>
                <a:lnTo>
                  <a:pt x="21600" y="5126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e80d12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314280" y="7959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308160" y="8408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7848720"/>
            <a:ext cx="701028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ion of the Pathway Tools Software and BioCyc Databas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esday 2:45-3:10, TT38, Peter Ka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Advanced Web Query Interface for Biological Database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day 12:40-2:30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02, Peter Ka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822240" y="9433080"/>
            <a:ext cx="360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gPhenixAmerican"/>
              </a:rPr>
              <a:t>http://gmod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31920" y="9433080"/>
            <a:ext cx="269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gPhenixAmerican"/>
              </a:rPr>
              <a:t>got genom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899172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 is a collection of interoperable, open source software components for managing, visualizing, and annotating biological data.  GMOD has mailing lists, meetings, a wiki, support staff, courses, and an active community of users and developers addr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challenges with their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21:51:10Z</dcterms:created>
  <dc:creator>GMOD / NESCent</dc:creator>
  <dc:description/>
  <dc:language>en-US</dc:language>
  <cp:lastModifiedBy>GMOD / NESCent</cp:lastModifiedBy>
  <cp:lastPrinted>2010-07-02T17:59:39Z</cp:lastPrinted>
  <dcterms:modified xsi:type="dcterms:W3CDTF">2010-07-02T18:04:12Z</dcterms:modified>
  <cp:revision>15</cp:revision>
  <dc:subject/>
  <dc:title>PowerPoint Presentation</dc:title>
</cp:coreProperties>
</file>